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466-376D-47FC-8A52-53E889A5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906-BD7F-4269-AF15-90DEEB6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D8D-1C6C-4950-82CA-5DFC97A7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6AB-FECF-4056-BD57-5F608AB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624-575E-4ECD-BECE-257F759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A6D-6D69-45F4-8C5A-BB94F73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D83-946B-4BCD-84D2-33E1EA1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A7F-5D94-4142-97A2-A945E50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9F3-38B2-404C-A9FF-FD7E8D60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0D4-3035-421A-AFA8-14FBD05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D36-E982-4EB3-B6E7-F0A3EEA2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B55-8151-4676-84C5-9C53F6F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0490-92A9-4822-8C15-86985D2EF9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100656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【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첨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142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인천아트플랫폼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맑은 고딕"/>
              </a:rPr>
              <a:t>2016 PPP-</a:t>
            </a: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플랫폼 퍼블릭 아트 프로덕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 </a:t>
            </a:r>
            <a:r>
              <a:rPr b="1" lang="en-US" sz="1200" spc="-1" strike="noStrike">
                <a:solidFill>
                  <a:srgbClr val="898989"/>
                </a:solidFill>
                <a:latin typeface="맑은 고딕"/>
              </a:rPr>
              <a:t>Platform Public art Prodection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공모계획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5840" y="1428840"/>
          <a:ext cx="8501040" cy="5286240"/>
        </p:xfrm>
        <a:graphic>
          <a:graphicData uri="http://schemas.openxmlformats.org/drawingml/2006/table">
            <a:tbl>
              <a:tblPr/>
              <a:tblGrid>
                <a:gridCol w="1315800"/>
                <a:gridCol w="3592800"/>
                <a:gridCol w="3592440"/>
              </a:tblGrid>
              <a:tr h="4474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성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rowSpan="4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작품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프로젝트 정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939393"/>
                          </a:solidFill>
                          <a:latin typeface="나눔고딕"/>
                          <a:ea typeface="맑은 고딕"/>
                        </a:rPr>
                        <a:t>작품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939393"/>
                          </a:solidFill>
                          <a:latin typeface="나눔고딕"/>
                          <a:ea typeface="맑은 고딕"/>
                        </a:rPr>
                        <a:t>작품재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939393"/>
                          </a:solidFill>
                          <a:latin typeface="나눔고딕"/>
                          <a:ea typeface="맑은 고딕"/>
                        </a:rPr>
                        <a:t>작품크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939393"/>
                          </a:solidFill>
                          <a:latin typeface="나눔고딕"/>
                          <a:ea typeface="맑은 고딕"/>
                        </a:rPr>
                        <a:t>제작년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작품제작 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설치 예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금 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금 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rowSpan="2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진행 기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2016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년 월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~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760" rIns="59760" tIns="29880" bIns="29880" anchor="t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진행일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100656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【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첨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71840" y="142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인천아트플랫폼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맑은 고딕"/>
              </a:rPr>
              <a:t>2016 PPP-</a:t>
            </a: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플랫폼 퍼블릭 아트 프로덕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 </a:t>
            </a:r>
            <a:r>
              <a:rPr b="1" lang="en-US" sz="1200" spc="-1" strike="noStrike">
                <a:solidFill>
                  <a:srgbClr val="898989"/>
                </a:solidFill>
                <a:latin typeface="맑은 고딕"/>
              </a:rPr>
              <a:t>Platform Public art Prodection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898989"/>
                </a:solidFill>
                <a:latin typeface="맑은 고딕"/>
              </a:rPr>
              <a:t>공모계획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4200" y="1214280"/>
          <a:ext cx="8715600" cy="535788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37260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*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사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*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지도 혹은 조감도상 위치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필요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*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설명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줄 이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6:41:27Z</dcterms:created>
  <dc:creator>arko</dc:creator>
  <dc:description/>
  <dc:language>en-US</dc:language>
  <cp:lastModifiedBy>오혜미</cp:lastModifiedBy>
  <dcterms:modified xsi:type="dcterms:W3CDTF">2016-07-14T04:35:37Z</dcterms:modified>
  <cp:revision>15</cp:revision>
  <dc:subject/>
  <dc:title>사업 장소 공모 신청서</dc:title>
</cp:coreProperties>
</file>